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CF9-5991-4F79-A2B8-11358F6E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10B-0C7F-4A74-BC51-F600F811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492-758B-44AB-9F3E-BA465784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B78-FEDF-47F5-8B6C-8E382AB8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EA4-936D-47C9-AA41-F11C9815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F37-A6E5-41CF-9010-B875531B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4C3-F5A1-4FB9-B3BE-D2DD246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130-063F-45FC-BDEA-BA56D6E0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749-0A2B-4CFF-B76E-45FC9AF3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0BA-8F49-4D97-95AA-40C3A9A5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ABF-D046-410E-8CBE-77569951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399-1318-4F97-99FD-3A2A288F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7BE1-FD00-4B1C-A942-60DD66A62B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3960" y="208548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можем ли м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жить без импортных продуктов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е проду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ятся именно в Кировской облас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сколько популяр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х продукция среди покупател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i (1).jpg"/>
          <p:cNvPicPr/>
          <p:nvPr/>
        </p:nvPicPr>
        <p:blipFill>
          <a:blip r:embed="rId1"/>
          <a:stretch/>
        </p:blipFill>
        <p:spPr>
          <a:xfrm>
            <a:off x="1042920" y="4156200"/>
            <a:ext cx="3313080" cy="2320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"/>
          <p:cNvPicPr/>
          <p:nvPr/>
        </p:nvPicPr>
        <p:blipFill>
          <a:blip r:embed="rId2"/>
          <a:stretch/>
        </p:blipFill>
        <p:spPr>
          <a:xfrm>
            <a:off x="4716360" y="4116240"/>
            <a:ext cx="3834000" cy="2389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092400" y="13780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684360" y="572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c0000"/>
                </a:solidFill>
                <a:latin typeface="Arial"/>
                <a:ea typeface="Arial"/>
              </a:rPr>
              <a:t>Фрагмент проектной работы на тему «Экономика родного кр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520" y="95688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зо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газинов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ссортим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ис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интернет-источни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еседа с продавца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уктовых магази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1066680" y="1890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Пути решения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адпись 12"/>
          <p:cNvSpPr/>
          <p:nvPr/>
        </p:nvSpPr>
        <p:spPr>
          <a:xfrm>
            <a:off x="4932360" y="3373560"/>
            <a:ext cx="3611520" cy="255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Толян\Dropbox\Скриншоты\Скриншот 2015-02-22 20.33.12.png"/>
          <p:cNvPicPr/>
          <p:nvPr/>
        </p:nvPicPr>
        <p:blipFill>
          <a:blip r:embed="rId2"/>
          <a:stretch/>
        </p:blipFill>
        <p:spPr>
          <a:xfrm>
            <a:off x="568440" y="3373560"/>
            <a:ext cx="424476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7080" y="115560"/>
            <a:ext cx="8472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Производство молочной проду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653680" cy="5740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7524720" y="1484280"/>
            <a:ext cx="1150920" cy="216000"/>
          </a:xfrm>
          <a:prstGeom prst="rect">
            <a:avLst/>
          </a:pr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2"/>
          <a:stretch/>
        </p:blipFill>
        <p:spPr>
          <a:xfrm>
            <a:off x="7389720" y="1450800"/>
            <a:ext cx="854280" cy="79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4"/>
          <p:cNvSpPr/>
          <p:nvPr/>
        </p:nvSpPr>
        <p:spPr>
          <a:xfrm>
            <a:off x="8269200" y="1430280"/>
            <a:ext cx="479520" cy="703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24000" y="-100080"/>
            <a:ext cx="100807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оизводство хлебобулочной и кондитерской 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3320" y="476280"/>
          <a:ext cx="8856360" cy="6278400"/>
        </p:xfrm>
        <a:graphic>
          <a:graphicData uri="http://schemas.openxmlformats.org/drawingml/2006/table">
            <a:tbl>
              <a:tblPr/>
              <a:tblGrid>
                <a:gridCol w="1800000"/>
                <a:gridCol w="1152720"/>
                <a:gridCol w="2950920"/>
                <a:gridCol w="1297080"/>
                <a:gridCol w="1655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ынки сб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рговый 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о-Чепецкий хлебокомб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2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, круассаны,  штруделя, рулеты, полуфабрикаты из слоеного т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ая област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удохле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солаыч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ладкая Слобода»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и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ая област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аба Маня», «На деревенском молок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улочно-кондитерский комбинат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вовя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, сухари, сушки, прян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ая област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ветская кондитерская фабри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, кондитерские изделия, какао, шокол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каронно-кондитерский комбинат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лободско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ароны, вермишель, лапша, печенье, слад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ская област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т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" name="Text Box 89"/>
          <p:cNvSpPr/>
          <p:nvPr/>
        </p:nvSpPr>
        <p:spPr>
          <a:xfrm>
            <a:off x="7308720" y="1197000"/>
            <a:ext cx="792360" cy="93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8101080" y="1197000"/>
            <a:ext cx="85860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лбасные изделия. Мясные полуфабрика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620640"/>
          <a:ext cx="8497800" cy="6126120"/>
        </p:xfrm>
        <a:graphic>
          <a:graphicData uri="http://schemas.openxmlformats.org/drawingml/2006/table">
            <a:tbl>
              <a:tblPr/>
              <a:tblGrid>
                <a:gridCol w="1992240"/>
                <a:gridCol w="1355760"/>
                <a:gridCol w="2574720"/>
                <a:gridCol w="25750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звание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од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ынки сб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грофирма «Дороничи»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Ки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басные изделия, мясные полуфабрик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ировская область, регионы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Абсолю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Кирово-Чепец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басные изд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. Киров, респ.Коми и Удмуртия, 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ветский мясокомб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тчина, колбаса, пельмен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рода Кировской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стинская и Зуевская птицефаб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ясо птицы, я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ободской мясокомб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басные и мясные изд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9280" y="288720"/>
            <a:ext cx="850752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Производственный холдинг «Здра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Принто-АГР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грокомбинат «Красногорск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М «Засолыч», ИП Шихов Н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Омутнинское рыбное хозяйст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1576440" y="1973160"/>
            <a:ext cx="1968480" cy="7365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2268360" y="4421160"/>
            <a:ext cx="1656000" cy="1473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"/>
          <p:cNvPicPr/>
          <p:nvPr/>
        </p:nvPicPr>
        <p:blipFill>
          <a:blip r:embed="rId3"/>
          <a:stretch/>
        </p:blipFill>
        <p:spPr>
          <a:xfrm>
            <a:off x="6180120" y="2786040"/>
            <a:ext cx="2063880" cy="1312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"/>
          <p:cNvPicPr/>
          <p:nvPr/>
        </p:nvPicPr>
        <p:blipFill>
          <a:blip r:embed="rId4"/>
          <a:stretch/>
        </p:blipFill>
        <p:spPr>
          <a:xfrm>
            <a:off x="4932360" y="936720"/>
            <a:ext cx="2303640" cy="1404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"/>
          <p:cNvPicPr/>
          <p:nvPr/>
        </p:nvPicPr>
        <p:blipFill>
          <a:blip r:embed="rId5"/>
          <a:stretch/>
        </p:blipFill>
        <p:spPr>
          <a:xfrm>
            <a:off x="6103800" y="4421160"/>
            <a:ext cx="2140200" cy="16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Кировской области более 400 предприятий, которые производят и перерабатывают продук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2472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5280" y="333360"/>
            <a:ext cx="8137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c0000"/>
                </a:solidFill>
                <a:latin typeface="Arial"/>
                <a:ea typeface="Arial"/>
              </a:rPr>
              <a:t>У вятских продукт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c0000"/>
                </a:solidFill>
                <a:latin typeface="Arial"/>
                <a:ea typeface="Arial"/>
              </a:rPr>
              <a:t>есть будуще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3241800" y="2403360"/>
            <a:ext cx="3025800" cy="2171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3009960" y="4703760"/>
            <a:ext cx="2990880" cy="1901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3"/>
          <a:stretch/>
        </p:blipFill>
        <p:spPr>
          <a:xfrm>
            <a:off x="201600" y="1197000"/>
            <a:ext cx="2182680" cy="1687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"/>
          <p:cNvPicPr/>
          <p:nvPr/>
        </p:nvPicPr>
        <p:blipFill>
          <a:blip r:embed="rId4"/>
          <a:stretch/>
        </p:blipFill>
        <p:spPr>
          <a:xfrm>
            <a:off x="6411960" y="233856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5"/>
          <a:stretch/>
        </p:blipFill>
        <p:spPr>
          <a:xfrm>
            <a:off x="7380360" y="23328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6"/>
          <a:stretch/>
        </p:blipFill>
        <p:spPr>
          <a:xfrm>
            <a:off x="108000" y="4732200"/>
            <a:ext cx="2820960" cy="1881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"/>
          <p:cNvPicPr/>
          <p:nvPr/>
        </p:nvPicPr>
        <p:blipFill>
          <a:blip r:embed="rId7"/>
          <a:stretch/>
        </p:blipFill>
        <p:spPr>
          <a:xfrm>
            <a:off x="109440" y="2997360"/>
            <a:ext cx="2989440" cy="1593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"/>
          <p:cNvPicPr/>
          <p:nvPr/>
        </p:nvPicPr>
        <p:blipFill>
          <a:blip r:embed="rId8"/>
          <a:stretch/>
        </p:blipFill>
        <p:spPr>
          <a:xfrm>
            <a:off x="6080040" y="4803840"/>
            <a:ext cx="2719440" cy="173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0:10:19Z</dcterms:created>
  <dc:creator>Толян</dc:creator>
  <dc:description/>
  <dc:language>en-US</dc:language>
  <cp:lastModifiedBy>ЕЛЕНА</cp:lastModifiedBy>
  <dcterms:modified xsi:type="dcterms:W3CDTF">2025-09-10T17:36:43Z</dcterms:modified>
  <cp:revision>165</cp:revision>
  <dc:subject/>
  <dc:title>Экономика родного края</dc:title>
</cp:coreProperties>
</file>